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dt" idx="37"/>
          </p:nvPr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sldImg"/>
          </p:nvPr>
        </p:nvSpPr>
        <p:spPr>
          <a:xfrm>
            <a:off x="8949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ftr" idx="38"/>
          </p:nvPr>
        </p:nvSpPr>
        <p:spPr>
          <a:xfrm>
            <a:off x="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 type="sldNum" idx="39"/>
          </p:nvPr>
        </p:nvSpPr>
        <p:spPr>
          <a:xfrm>
            <a:off x="377964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0B6F-EE24-465F-9A60-FD2CC24FB0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ave a common understanding of R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an explain and apply RBM concepts to both programme and operations results frame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78000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2C52-C7E5-4D96-B923-808343D5E2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graphic show a “regular BoS approach. Actual time varies depending on the scope of the B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78000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33F9-FAD6-4558-9EF9-C5E53424A7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9C80-A1BE-4DC1-B60D-93CA1509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278D-E014-400B-82B6-214C0D3A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0A16-C4B8-4C5D-BF5E-6AFEA10A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ADEF-FF37-4BE6-AF49-8572F41A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6506-C128-4BE4-8BCF-99709DBD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9D27-D90C-424D-BD4C-940C8BA5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4D34-8E00-4AEB-A6C0-92029E1D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27F0-2583-473A-9F37-C4A24553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06B2-1853-47BF-B2AA-6C8C0D83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0C73-6397-4FF6-B23C-3898BE7B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6967-CC44-47B1-B922-389F7E29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0707-B239-408E-BD0B-9035DC83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5DAE2-D036-4824-9643-709B23FC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984D1-91FC-4145-B23A-20BB3609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8D846-F806-4A7E-B37E-5D90EC11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9BE97-0E46-4040-9D50-48798170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38B08-39EF-4A38-95AE-66B349C8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4F89-82FA-46E5-BFE6-2582D41A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7DEB7-52F8-4A5C-93D8-55BDEF1A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FAE67-B7CF-4FDA-BC2B-22BD33E3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542B1-6456-480C-8372-070CBBB5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744F7-D451-4BA4-A786-68E3E341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5FD94-695C-410D-86C0-9F2E25FD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9836-83B0-4401-A463-E1956D1E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0C551-453D-4E8B-987D-5F8DC8D2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0CADB-EF8D-4678-95CF-7F801AD0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D0302-2682-4F42-9CDE-D8F32A97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7CA0C-CF86-4A53-84BB-E80B484B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C49A2-639D-470A-BEB2-0B089E32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37F93-31F4-4E53-8B55-FE25DD4A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5A15-6F93-4412-AD68-2ACC672B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13748-96B1-4A53-9F4C-457DE836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FB751-3833-4D7B-BD2F-6344FEA8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C8403-2FC3-4798-95A0-31BEC370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9E730-D439-43E8-9B40-ECB14D0A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9BEEE-016D-4578-80F2-049293C7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6DF73-1084-4BFF-A6F2-A2ABF9D7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863E7-98C3-4C22-91B1-61083386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E0AC5-4241-4F53-8F98-B397803D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F1C6-EEF0-4877-8E64-DCB45BAE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80DF7-D300-4F92-B807-7F1FD247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CE456-0605-440F-9191-EC291E1A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1C8A0-5E2C-4462-B3EB-05E8D10B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54939-B8F9-466C-A09E-8D9ABDEF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AA309-8E00-47C6-A25F-2ED4EF6E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E4B98-A00B-47B3-B9AF-166345F2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0E62D-2438-4D9F-A956-316D00D4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41F1D-1D18-4B6F-8976-20155C43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ACA8E-C147-4F97-B9AF-5E41AC93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F0690-3C02-4D3F-9569-27035595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D5093-01D4-42FC-8E1D-9E992855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3BA0E-884B-4358-A179-7C0C269B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8C184-1F82-484F-8F2E-A51C77E3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756F7-4519-4D77-9A36-D61A3A38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5273F-562C-49CE-8C79-C1317E71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EA33B-A4DE-4E0E-B36B-9A506C4D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50EED-AA58-4EC6-81A9-ACAEDED7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9F748-BE9E-4EC5-8D42-213AD37B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EA745-69DF-4098-8339-86D97A62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1E806-95D7-4284-9E77-22BD679F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59146-D6DD-445D-9C1E-FDDF84E6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4F441-C0DA-4AF6-8A12-AC5F6A13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C54E5-94F0-41C0-83D7-EDCDCE0A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C2085-B1C5-4F0F-BBC2-0A700679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BC960-97C2-44C5-8378-CFAA42E6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F44CF-9A13-4AF4-8CA8-CE594B45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169F9-DFC8-4E16-86BE-5C7660AA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40E90-88D3-42A3-A451-9AD4E3F6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8C62B-702E-4646-8FCF-609E2031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2DF7C-D0EF-400F-8A63-BC0E0C8B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21710-3879-4149-9C50-C2A5A56E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848E7-8A58-4587-B807-D51E6D25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76114-8FAB-48AF-8E6D-4E0783FD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94839-B695-4639-8B13-EF52CC0B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E0F28-9B9A-4EC9-B7DE-FC04B88E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BA0D2-BDEB-4294-9E25-3183376C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3B80B-F010-4049-9098-133BA847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DF3DC-FB55-4BE9-BD3A-890A4787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45083-19C2-405A-A588-A0F0EFAB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AD29A-4B11-4AD8-9CC5-37510D7B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07538-8334-47F8-9CBE-78031A13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DD978-687F-49F1-A2B6-63A1B7CB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189AF-57DA-41F5-B9CF-D335E9C4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BA5B6-E640-468A-B1F6-68567CED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88515-C95A-45A2-9CE7-D381E17F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14147-4D1C-4E68-B52E-CF72E00D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05045-6874-49D1-95A5-1DB0F53D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0A2EC-CBCC-4A25-BE67-68CFDF5F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D0A29-7048-4B4D-81E9-7015C7EE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A95FE-C7E4-4240-8898-B909BE46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AF2BC-D463-4E1F-8E3B-C959CFFF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DDE4E-C4FC-4072-B11C-54D94A50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B5B51-5E1E-41F1-9E2D-DCD5D6EE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538F4-CB4C-49C8-97D5-7E01D9AD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4DBA6-FE52-4316-85B0-321BF053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F074E-0C3E-4660-9A7D-98984919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D878E-DF89-4157-A117-741D5E7F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A67A5-AF01-4413-833F-F56E8111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878BB-FEDD-445D-9C02-812345E0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6F452-3F58-41B7-A29A-C59BF302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A498B-261C-45D0-8270-7BB08633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62FAC-BE92-42D0-A263-730F63B5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414F1-1D6C-4F7B-91EC-7124A0D5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BDE14-0B35-49DD-A551-FF605FD0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B08D6-FBD7-4ED2-ACF8-0DD98EB5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880D6-FA44-480D-A0D2-C3A4E3EB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E9C06-70B6-427C-A5D2-53C5BFF4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E3802-2EA9-4DBC-9EB5-57AA0A85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1AA5C-9A21-4D01-9C61-5EB99AC8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BA4FA-B7BA-4349-994E-7C42C9A7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5A7E2-6FFD-41A2-8CC5-034B8494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646D8-3D3E-4CBB-BC9C-332592D2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F0EE5-C076-41FC-ABB6-1B394BCD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D32FD-4976-4F3B-BAFB-2330BB8C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BBB6B-E051-4339-A4CC-F39DEB83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A92F7-9513-4058-822F-401E38C8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CCC60-7B3B-4625-93FA-6AEC7A62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9081F-06DE-42AC-8C6D-3F86D179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5271B-10F9-46D6-9740-6C8FB1F9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18398-D521-4800-B83D-3A5026F6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40896-E030-4758-8D4C-8D6AB77D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9D77F-44DF-4939-A9DB-DD252435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F40C3-03E4-4B5D-8E86-3BA87482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4173A-11F7-4286-9E98-311EF44F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A7013-488E-4764-845D-CD298E76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A11E4-20EC-41F2-B2AA-01941247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A03E7-A27C-4260-BE07-CF6E3A89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67B5A-3D07-47CA-BD79-64576320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9E014-6303-42D2-BC7E-23ED1D57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AD6C2-D15F-40CE-8167-6D2C1EDB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C81C4-61E2-44A6-AB95-4D59EDA7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03791-452A-4C2E-9974-2B7D8BCB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77B-D1CD-4939-AB7E-A4D8E960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D13-4534-4B9B-952D-6F1658EB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AFF-6705-4E12-B266-58E127FB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BE1-E42E-4D8E-8379-AFC8FB0D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772-8E51-4482-93B9-9263C613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657-45CB-44EB-A07F-B87E35BD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4A5-420A-4B9C-974E-B4122207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DFA-4014-41CC-B485-F798BE1C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7A0-B5E3-448A-8458-29F1E122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491-C1BE-4BFE-A9D5-D9D20834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F0B-6B01-475F-AC7A-4210E70E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86E-52E0-4A69-A80B-200D775F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0910-D0C5-41B9-94E3-25C7FBD52A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E83-BDE5-44A9-990A-3E4C661A1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CB82-0526-4BDA-9743-8BCBBC6D5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BAA7-378D-4E9A-AC78-BFE22860A4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FB50-D41A-42A0-AF46-2B8B8107B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B688-5B8C-4E25-9C6F-CAC7D46A96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6CC5-7DBD-4409-9B56-CEBB7E04AA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9288-7A12-4958-A6C3-8CEC782C14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5134-DDB6-407C-AFB1-02C23B59B1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50DF-EA77-4A40-8591-712A43CB65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ADDA-42F8-486B-8D21-0B013FFA56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22CC-C277-4D34-BD25-D887A23E8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DOCO new logo"/>
          <p:cNvPicPr/>
          <p:nvPr/>
        </p:nvPicPr>
        <p:blipFill>
          <a:blip r:embed="rId3"/>
          <a:stretch/>
        </p:blipFill>
        <p:spPr>
          <a:xfrm>
            <a:off x="179280" y="620640"/>
            <a:ext cx="2808360" cy="50796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67840" y="3031920"/>
            <a:ext cx="879948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NDG Business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B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1027"/>
          <p:cNvSpPr/>
          <p:nvPr/>
        </p:nvSpPr>
        <p:spPr>
          <a:xfrm>
            <a:off x="1785960" y="5229360"/>
            <a:ext cx="5943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5395"/>
                </a:solidFill>
                <a:latin typeface="Arial"/>
              </a:rPr>
              <a:t>Advanced Business Operations Trai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5395"/>
                </a:solidFill>
                <a:latin typeface="Arial"/>
              </a:rPr>
              <a:t>Kabul, Afghanistan November 2014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57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Lessons Learned BOS- Pilo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13"/>
          <p:cNvSpPr/>
          <p:nvPr/>
        </p:nvSpPr>
        <p:spPr>
          <a:xfrm rot="5400000">
            <a:off x="3929400" y="3855240"/>
            <a:ext cx="1086120" cy="3259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15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5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ssons Learned BOS- Pi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pturing the dat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hard work. Needs to be real commitment and leadership to get this done. worth considering getting external hel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urement people seem to prefer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ain their individual relationshi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suppli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staff turnover there is a regular need to re-explain and re-advocate for BOS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pacity development /Regular training should be provid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reinforce the strategic management of programme and operations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rterly UN induction train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Common Business Ops organised as a common staff development action (under the HR component of the BOS) is very much recommen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M&amp;E TWG should be enhanc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llow for better planning and monitoring (of programme as well as operational activiti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9:07:36Z</dcterms:created>
  <dc:creator>goodale</dc:creator>
  <dc:description/>
  <dc:language>en-US</dc:language>
  <cp:lastModifiedBy>Lars Tushuizen</cp:lastModifiedBy>
  <cp:lastPrinted>2013-04-23T17:01:54Z</cp:lastPrinted>
  <dcterms:modified xsi:type="dcterms:W3CDTF">2014-11-20T16:47:31Z</dcterms:modified>
  <cp:revision>993</cp:revision>
  <dc:subject/>
  <dc:title>PowerPoint Presentation</dc:title>
</cp:coreProperties>
</file>